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05600" y="23184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fld id="{990D461B-332E-4974-BF0A-2BE4BC47DC5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779400"/>
            <a:ext cx="7772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1</a:t>
            </a:r>
            <a:br>
              <a:rPr sz="36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n Overview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286000"/>
            <a:ext cx="68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of 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welfare is higher in capitalist free market economies than in communist or socialist econom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tu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sts the most admired firms.  In addition to high stock returns, these firms ha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quality from customers’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es who like working t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26301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mou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ash flows expected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im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cash flow str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sustainable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ree Determinants of Cash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711360"/>
            <a:ext cx="7899480" cy="965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the Level and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of Cash Flow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made by financial manager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decisions (product lines, production processes, geographic market, use of technology, marketing strateg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decisions (choice of debt policy and dividend policy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ternal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99920" y="25909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mput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lectronic transf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lobal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240" y="76500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nancial Managemen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ists whenever a principal hires an agent to act on his or her behal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a corporation, agency relationships exist betwe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cred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809640"/>
            <a:ext cx="792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s are naturally inclined to act in their own best intere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the following factors affect managerial behavio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ial compensation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intervention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fi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take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9040" y="762120"/>
            <a:ext cx="769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(through managers) could take actions to maximize stock price that are detrimental to credit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long run, such actions will raise the cost of debt and ultimately lower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Cred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041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uses a company to have a particular stock valu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make choices that add value to their compani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ensure that their companies don’t run out of cash while executing their pla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85800"/>
            <a:ext cx="7769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three questions does financial management seek to ans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2590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s and capital mar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240" y="795240"/>
            <a:ext cx="776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reer Opportunities in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38360" y="2590920"/>
            <a:ext cx="58672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240" y="73332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ternative Form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to few reg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orporate incom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icult to raise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240" y="76212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ole Propriet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99920" y="2590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artnership has roughly the same advantages and disadvantages as a sole proprietorshi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809640"/>
            <a:ext cx="7772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transfer of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raising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ble tax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of set-up and report fi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imary goal is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 wealth maxim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ich translates to maximizing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firms behave ethically? 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firms have any responsibilities to society at large?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  Shareholders are also members of socie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maximizing stock price good for society, employees, and customer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growth is higher in firms that try to maximize stock price. On average, employment goes up in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make managers into owners (such as LBO fir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were owned by the government but that have been sold to private inves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14:21:22Z</dcterms:created>
  <dc:creator>Lou Gapenski and Mike Ehrhardt</dc:creator>
  <dc:description/>
  <dc:language>en-US</dc:language>
  <cp:lastModifiedBy>Brian E. Moffitt</cp:lastModifiedBy>
  <cp:lastPrinted>1998-05-18T17:39:09Z</cp:lastPrinted>
  <dcterms:modified xsi:type="dcterms:W3CDTF">2001-05-15T16:46:09Z</dcterms:modified>
  <cp:revision>30</cp:revision>
  <dc:subject>Powerpoint Show</dc:subject>
  <dc:title>FM10 Ch 01</dc:title>
</cp:coreProperties>
</file>